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2C63-9950-468F-9693-ACD3E6AB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1285-9F8C-4F70-B308-E1E4CFBBC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B1E-7E0D-45A9-8EA5-BC4AE44E7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213-4065-45A2-8C93-82E1C2174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784C-8807-401B-B0AF-EA020949D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88C2-EE44-4E05-9DEB-B532AF864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580-3881-4BA0-8F47-DAFF8E976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9A9-6F4B-4A31-9F86-444FE1B0F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EA36-26F1-434C-8A99-D7A2A7592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91E0-FAFC-4227-9C82-FA9208701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B4C-2CE5-4B1D-B082-480C12B37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1C7A-EEB6-42BD-83F5-AAAD6849E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47D-65EE-4801-8A15-1D74BC71DE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B145-7295-4ECA-A522-EB0C183C9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476-567D-4DD5-9E72-FB4C0AAC5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A901-C66D-4220-AD4B-ED7F6026F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1CC-6FA2-4B68-A650-C9DCB617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BCE-01D7-4CFE-B332-47C1627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187-1C92-448A-8C9C-BCEFB8D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FB7-496C-4770-B0B7-1205734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965-59C1-4627-8A3B-38DF6C07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2B8-E18E-41FE-B0F0-1A3C0CE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DF8-5C2E-4160-8F89-2088CE6D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423-0BC5-46BE-B934-19CCF408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6F6-5009-45C1-A35C-4E0BC92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B16-871D-474F-BDE3-844FB89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7C1-FAEF-4F34-95B3-B033329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EC3-7CF0-4442-9C6A-48164FC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3BC-7049-41B9-8EF1-8F29751F72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Day 1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y 2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re: 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 is a story that can happen in real life (characters have feelings that real people ha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beginning reading. We will stop periodically as we fill in our tri-fold. Remember graphic organizers help keep our minds organized as we re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traight Connector 15"/>
          <p:cNvSpPr/>
          <p:nvPr/>
        </p:nvSpPr>
        <p:spPr>
          <a:xfrm>
            <a:off x="4267080" y="44197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H="1">
            <a:off x="52578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895480" y="32767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fill in the graphic organizer as a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1219320" y="2286000"/>
            <a:ext cx="2438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5029200" y="2057400"/>
            <a:ext cx="2362320" cy="1523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362320" y="3809880"/>
            <a:ext cx="4190760" cy="2667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happening on October 1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the whole school has been wai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you think Eddie feels about the author’s vis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ddie like the books the author wrote? How can you t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is Eddie? How do you k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es Eddie write the no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biggest problem in the st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heck Comprehens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the main charact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MCj04241780000[1]"/>
          <p:cNvPicPr/>
          <p:nvPr/>
        </p:nvPicPr>
        <p:blipFill>
          <a:blip r:embed="rId1"/>
          <a:stretch/>
        </p:blipFill>
        <p:spPr>
          <a:xfrm>
            <a:off x="3962520" y="4114800"/>
            <a:ext cx="2063520" cy="235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Tri-F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Element Flip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2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380880"/>
            <a:ext cx="7162920" cy="5715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Eddie Meet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2438280"/>
            <a:ext cx="7162920" cy="3733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66680" y="3048120"/>
            <a:ext cx="7162920" cy="30477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3657600"/>
            <a:ext cx="7162920" cy="24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066680" y="4267080"/>
            <a:ext cx="7162920" cy="1905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066680" y="4952880"/>
            <a:ext cx="7162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066680" y="5562720"/>
            <a:ext cx="7162920" cy="609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Author’s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phabetical 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comes first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bu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b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b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comes first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c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conq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coinc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57200" y="304920"/>
            <a:ext cx="792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group of words is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silent, still, smiling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silent, smiling, still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smiling, straight, silent, st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still, smiling, silent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group of words is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, bass, bush, 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, bass, branch, 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s, berry, branch, 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s, berry, bush, 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does the wor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mea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lo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movie    mull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fore m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mall and m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mist and mov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mul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does the wor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mel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lo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ve    shop     short    swee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fore sav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save and sh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short and swe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swe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your books to page 5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 begin to read a story, I think about who the author is telling about. This is probably the main character. Then when I read on , I think about what the character says and does, and I look for other characters. I also think about the setting of th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06080" y="6361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T Practice (RISC) The Scienc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gie (Beginning, Middle, and E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betical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ap Book in Reading Book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Finding Words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C:\Users\Ena\AppData\Local\Microsoft\Windows\Temporary Internet Files\Content.IE5\QULKTN2R\MP900443600[1].jpg"/>
          <p:cNvPicPr/>
          <p:nvPr/>
        </p:nvPicPr>
        <p:blipFill>
          <a:blip r:embed="rId1"/>
          <a:stretch/>
        </p:blipFill>
        <p:spPr>
          <a:xfrm>
            <a:off x="304920" y="2851200"/>
            <a:ext cx="5638680" cy="37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Words in a dictionary are in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Arial"/>
              </a:rPr>
              <a:t>ABC order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C:\Users\Ena\AppData\Local\Microsoft\Windows\Temporary Internet Files\Content.IE5\ELISQHBH\MP900174966[1].jpg"/>
          <p:cNvPicPr/>
          <p:nvPr/>
        </p:nvPicPr>
        <p:blipFill>
          <a:blip r:embed="rId1"/>
          <a:stretch/>
        </p:blipFill>
        <p:spPr>
          <a:xfrm>
            <a:off x="304920" y="281952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To find words fast, we us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733560" y="1752120"/>
            <a:ext cx="5105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uide Word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0" descr="C:\Users\Ena\AppData\Local\Microsoft\Windows\Temporary Internet Files\Content.IE5\8MA05PMN\MP900443608[1].jpg"/>
          <p:cNvPicPr/>
          <p:nvPr/>
        </p:nvPicPr>
        <p:blipFill>
          <a:blip r:embed="rId1"/>
          <a:stretch/>
        </p:blipFill>
        <p:spPr>
          <a:xfrm>
            <a:off x="0" y="2843280"/>
            <a:ext cx="4343400" cy="401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cac9e"/>
                </a:solidFill>
                <a:latin typeface="Arial"/>
              </a:rPr>
              <a:t>Guide Word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de words are the two words at the top of each dictionary page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de words help you find words in the diction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cac9e"/>
                </a:solidFill>
                <a:latin typeface="Arial"/>
              </a:rPr>
              <a:t>Guide words are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nd last word on the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l  -  gl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ord     Last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Remember, words in a dictionary are in ABC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3657600" y="38858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 flipV="1">
            <a:off x="5334120" y="3809880"/>
            <a:ext cx="3045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1920" y="11426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irl – glob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iss - kit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ee – kno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tty – pri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il - s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90960" y="1066320"/>
            <a:ext cx="3352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if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11736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cb"/>
                </a:solidFill>
                <a:latin typeface="Arial"/>
              </a:rPr>
              <a:t>Copy these guide words on your white board.  Then write the words that would be found on the same page beside the guide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5"/>
          <p:cNvSpPr/>
          <p:nvPr/>
        </p:nvSpPr>
        <p:spPr>
          <a:xfrm>
            <a:off x="4343400" y="1676520"/>
            <a:ext cx="190512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 flipV="1">
            <a:off x="3962520" y="1447560"/>
            <a:ext cx="2209680" cy="1066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4648320" y="3657600"/>
            <a:ext cx="129528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traight Connector 11"/>
          <p:cNvSpPr/>
          <p:nvPr/>
        </p:nvSpPr>
        <p:spPr>
          <a:xfrm flipV="1">
            <a:off x="4572000" y="3580920"/>
            <a:ext cx="144792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3"/>
          <p:cNvSpPr/>
          <p:nvPr/>
        </p:nvSpPr>
        <p:spPr>
          <a:xfrm flipV="1">
            <a:off x="3733920" y="4419360"/>
            <a:ext cx="243828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cac9e"/>
                </a:solidFill>
                <a:latin typeface="Arial"/>
              </a:rPr>
              <a:t>Choose the word that you would find on the same page as the following guide words.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34" name="Picture 4" descr="C:\Users\Ena\AppData\Local\Microsoft\Windows\Temporary Internet Files\Content.IE5\8EM07EE4\MP900341468[1].jpg"/>
          <p:cNvPicPr/>
          <p:nvPr/>
        </p:nvPicPr>
        <p:blipFill>
          <a:blip r:embed="rId1"/>
          <a:stretch/>
        </p:blipFill>
        <p:spPr>
          <a:xfrm>
            <a:off x="5486400" y="42480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ketchup - kick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ett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o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KETT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C:\Users\Ena\AppData\Local\Microsoft\Windows\Temporary Internet Files\Content.IE5\8MA05PMN\MC900264356[1].wmf"/>
          <p:cNvPicPr/>
          <p:nvPr/>
        </p:nvPicPr>
        <p:blipFill>
          <a:blip r:embed="rId1"/>
          <a:stretch/>
        </p:blipFill>
        <p:spPr>
          <a:xfrm>
            <a:off x="6324480" y="2133720"/>
            <a:ext cx="1852560" cy="420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s read page 53. Draw this graph and fill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143000" y="2590920"/>
            <a:ext cx="2971800" cy="12952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486400" y="2514600"/>
            <a:ext cx="2971800" cy="12952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2895480" y="4648320"/>
            <a:ext cx="3810240" cy="18288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y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743200" y="38862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5866920" y="3809880"/>
            <a:ext cx="12193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to - toe</a:t>
            </a: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l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O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C:\Users\Ena\AppData\Local\Microsoft\Windows\Temporary Internet Files\Content.IE5\ELISQHBH\MP900430466[1].jpg"/>
          <p:cNvPicPr/>
          <p:nvPr/>
        </p:nvPicPr>
        <p:blipFill>
          <a:blip r:embed="rId1"/>
          <a:stretch/>
        </p:blipFill>
        <p:spPr>
          <a:xfrm>
            <a:off x="426708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crawl - crocodile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i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RI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C:\Users\Ena\AppData\Local\Microsoft\Windows\Temporary Internet Files\Content.IE5\QULKTN2R\MP900441105[1].jpg"/>
          <p:cNvPicPr/>
          <p:nvPr/>
        </p:nvPicPr>
        <p:blipFill>
          <a:blip r:embed="rId1"/>
          <a:stretch/>
        </p:blipFill>
        <p:spPr>
          <a:xfrm>
            <a:off x="2857680" y="1981080"/>
            <a:ext cx="62863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1676520" y="5181480"/>
            <a:ext cx="4572000" cy="838440"/>
          </a:xfrm>
          <a:prstGeom prst="rect">
            <a:avLst/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00400" y="3962520"/>
            <a:ext cx="2743200" cy="990360"/>
          </a:xfrm>
          <a:prstGeom prst="rect">
            <a:avLst/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crawl - crocodile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ib, car, c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these words in ABC order—remember to use the guide words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car,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awl,</a:t>
            </a: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 crib,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ocodile,</a:t>
            </a: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 cr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838080" y="10666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6019920" y="4876920"/>
            <a:ext cx="198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spoon - spring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p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PO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C:\Users\Ena\AppData\Local\Microsoft\Windows\Temporary Internet Files\Content.IE5\8EM07EE4\MP900175445[1].jpg"/>
          <p:cNvPicPr/>
          <p:nvPr/>
        </p:nvPicPr>
        <p:blipFill>
          <a:blip r:embed="rId1"/>
          <a:stretch/>
        </p:blipFill>
        <p:spPr>
          <a:xfrm>
            <a:off x="3657600" y="2057400"/>
            <a:ext cx="524520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button  -  by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BU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C:\Users\Ena\AppData\Local\Microsoft\Windows\Temporary Internet Files\Content.IE5\8MA05PMN\MC900432551[1].png"/>
          <p:cNvPicPr/>
          <p:nvPr/>
        </p:nvPicPr>
        <p:blipFill>
          <a:blip r:embed="rId1"/>
          <a:stretch/>
        </p:blipFill>
        <p:spPr>
          <a:xfrm>
            <a:off x="449568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acac9e"/>
                </a:solidFill>
                <a:latin typeface="Arial"/>
              </a:rPr>
              <a:t>Haymow-Headrest</a:t>
            </a:r>
            <a:endParaRPr b="0" lang="en-US" sz="6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1440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wk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zel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vy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l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dache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ve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914400" y="6094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33920" y="762120"/>
            <a:ext cx="4190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733920" y="1676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86200" y="25146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05320" y="34290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952880" y="43434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57600" y="5257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acac9e"/>
                </a:solidFill>
                <a:latin typeface="Arial"/>
              </a:rPr>
              <a:t>Haymow-Headrest</a:t>
            </a:r>
            <a:endParaRPr b="0" lang="en-US" sz="6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066320"/>
            <a:ext cx="39625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7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d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8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ay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9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lth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10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atch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98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200400" y="2057400"/>
            <a:ext cx="3809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62520" y="3048120"/>
            <a:ext cx="3809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9112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y 5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 wanted to do everything his older brother, Bill, did. Bill was playing catch on the playground with his friend Mike. They were throwing a footba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 play?” Stan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e, if you can catch it,” Bill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hrew the ball high in the air. Stan ran and held his hands together. The ball landed right in his han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e catch,” Bill said. “You can join u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your graphic organiz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838080" y="2666880"/>
            <a:ext cx="2895840" cy="12193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are the charac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5181480" y="2590920"/>
            <a:ext cx="3048120" cy="1371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sett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2362320" y="4648320"/>
            <a:ext cx="4114800" cy="17524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story ev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895480" y="38862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5715000" y="396252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ook – Page 1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16960" cy="52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731360" cy="502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ening Comprehens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logy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C:\Documents and Settings\teacherses\My Documents\My Pictures\C_0689834055.jpg"/>
          <p:cNvPicPr/>
          <p:nvPr/>
        </p:nvPicPr>
        <p:blipFill>
          <a:blip r:embed="rId1"/>
          <a:stretch/>
        </p:blipFill>
        <p:spPr>
          <a:xfrm>
            <a:off x="2971800" y="1752480"/>
            <a:ext cx="3363840" cy="4103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Lesson 2 day 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1:51Z</dcterms:created>
  <dc:creator>osmer</dc:creator>
  <dc:description/>
  <dc:language>en-US</dc:language>
  <cp:lastModifiedBy>shill</cp:lastModifiedBy>
  <dcterms:modified xsi:type="dcterms:W3CDTF">2012-09-08T20:36:47Z</dcterms:modified>
  <cp:revision>36</cp:revision>
  <dc:subject/>
  <dc:title>Lesson 2</dc:title>
</cp:coreProperties>
</file>